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677-7282-44B3-B728-7AF96A38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E4C-F048-4867-B4BA-9679CD7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91A-A049-4348-9813-216639C5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1DC-C164-43AA-B886-84B7961D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CD8-BC79-45DA-A413-B2FEB570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B65-126E-4C03-AB9E-02276632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F1D-FBC4-4A1A-BFA1-4529067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100-DA02-4BB8-A849-F0018A70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B14-16F6-40C1-8848-3A7BF23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9B7-CBA2-4F08-8F5E-5A45C08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A4A-6525-4588-BEBA-15BFE87B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ED8-B1ED-490C-A2BF-99D82B4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542-2F9B-4DE2-9CD4-402AB76CE6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eat anywhe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assigned seats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r. B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teachin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at Hal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lor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Bair\Downloads\dsc_5237.jpg"/>
          <p:cNvPicPr/>
          <p:nvPr/>
        </p:nvPicPr>
        <p:blipFill>
          <a:blip r:embed="rId1"/>
          <a:srcRect l="15191" t="6224" r="5056" b="0"/>
          <a:stretch/>
        </p:blipFill>
        <p:spPr>
          <a:xfrm>
            <a:off x="3492360" y="3789360"/>
            <a:ext cx="3621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bout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Overview About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hroom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class ppt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alking when I am t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instructions du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wikispaces.com &amp; sign up for a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ccount name MUST be your first name and last name with no spaces, and must be lower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ason Bair = jasonb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taken, add a number to the end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login name and password on the paper on the litt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irst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Jason Bair</cp:lastModifiedBy>
  <dcterms:modified xsi:type="dcterms:W3CDTF">2011-08-19T16:38:46Z</dcterms:modified>
  <cp:revision>573</cp:revision>
  <dc:subject/>
  <dc:title>TITLE</dc:title>
</cp:coreProperties>
</file>